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96AD28-F99F-4790-8ECD-71D26CA39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2454EE0-3561-459F-AC40-F59F9254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5E657AA-085C-45FC-A424-47C61E32A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0077F7D-ECB6-442D-9338-CD886980B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64B4D1-FE21-4B40-B526-BD1342D4B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9747B-D449-4684-890D-71F8CF10E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447B6-621C-40AD-8C22-796A793EA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CE2F2-0165-44F5-A1A1-440DD5BBD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56425-087B-49C8-A006-E1D487E1F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A5EE2-5517-4637-A46C-6BD5608F9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64DE-8AF3-413C-A4D7-268029821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0D754D9-39EF-4C45-A14A-81DCCD7B3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D8703-AD6C-404F-B304-D4908A651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7C0CB-C28A-41D3-B0CE-D55F95D0B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EDAF3-EA05-4447-BE8A-44FF3FE079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482A0-756B-4F68-9849-BEC5B7447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C4679-C1E2-4C7A-A075-9FC0FC8598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DBE7933-D9D3-4225-96CB-C6D544D8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BDBBEE0-696E-48FD-B50A-2228A14F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F2F1B66-366A-4298-9108-8C418B91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63DDC2A-54C3-4768-B6C1-418380C5B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960083F-8488-4F2F-91E5-30E9524B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7C6CBD3-2727-47DC-A0BD-8DBADC1FF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12695F-C365-4D70-8195-0157962EE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7940-9B9F-4CA7-9FEF-91F772524A5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CD21-84C2-4C4C-B7E5-A733202E54E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nb.ca/education/bezeau/eact/eact13.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e5e5ff"/>
                </a:solidFill>
                <a:latin typeface="Garamond"/>
              </a:rPr>
              <a:t>Chapter 13</a:t>
            </a:r>
            <a:br>
              <a:rPr sz="3600"/>
            </a:br>
            <a:r>
              <a:rPr b="0" lang="en-US" sz="3600" spc="-1" strike="noStrike">
                <a:solidFill>
                  <a:srgbClr val="e5e5ff"/>
                </a:solidFill>
                <a:latin typeface="Garamond"/>
              </a:rPr>
              <a:t>Child Welfare </a:t>
            </a:r>
            <a:br>
              <a:rPr sz="3600"/>
            </a:br>
            <a:endParaRPr b="1" lang="en-US" sz="36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stitutional Power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lfare and Educati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y Care in School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elfare Children in School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ld Protection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Need of Protectio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ehensions in Schools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y Young Offenders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 Abuse </a:t>
            </a:r>
            <a:endParaRPr b="0" lang="en-US" sz="24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ild Abuse Reporting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Apprehensions in Schools </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Precautions are necessary because schools are also a favourite location for child snatching resulting from parental custody disputes.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chool officials recognize that child–welfare workers do have the right to enter schools to question and remove children and that such children are not protected by any rights comparable to those contained in the </a:t>
            </a:r>
            <a:r>
              <a:rPr b="0" i="1" lang="en" sz="3200" spc="-1" strike="noStrike">
                <a:solidFill>
                  <a:srgbClr val="ffffff"/>
                </a:solidFill>
                <a:latin typeface="Garamond"/>
              </a:rPr>
              <a:t>Youth Criminal Justice Act</a:t>
            </a:r>
            <a:r>
              <a:rPr b="0" lang="en" sz="3200" spc="-1" strike="noStrike">
                <a:solidFill>
                  <a:srgbClr val="ffffff"/>
                </a:solidFill>
                <a:latin typeface="Garamond"/>
              </a:rPr>
              <a:t>.  </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Very Young Offenders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ren who have reached the age of 12 and who commit serious offences may be dealt with under the </a:t>
            </a:r>
            <a:r>
              <a:rPr b="0" i="1" lang="en" sz="3200" spc="-1" strike="noStrike">
                <a:solidFill>
                  <a:srgbClr val="ffffff"/>
                </a:solidFill>
                <a:latin typeface="Garamond"/>
              </a:rPr>
              <a:t>Youth Criminal Justice Act</a:t>
            </a:r>
            <a:r>
              <a:rPr b="0" lang="en" sz="3200" spc="-1" strike="noStrike">
                <a:solidFill>
                  <a:srgbClr val="ffffff"/>
                </a:solidFill>
                <a:latin typeface="Garamond"/>
              </a:rPr>
              <a:t>, a federal statute.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Offenders younger than 12 are frequently dealt with by the child welfare system.  </a:t>
            </a:r>
            <a:r>
              <a:rPr b="0" lang="en" sz="3200" spc="-1" strike="noStrike" u="sng">
                <a:solidFill>
                  <a:srgbClr val="ffffff"/>
                </a:solidFill>
                <a:uFillTx/>
                <a:latin typeface="Garamond"/>
              </a:rPr>
              <a:t>Ontario has special provisions for this in the </a:t>
            </a:r>
            <a:r>
              <a:rPr b="0" i="1" lang="en" sz="3200" spc="-1" strike="noStrike" u="sng">
                <a:solidFill>
                  <a:srgbClr val="ffffff"/>
                </a:solidFill>
                <a:uFillTx/>
                <a:latin typeface="Garamond"/>
              </a:rPr>
              <a:t>Child and Family Services Act</a:t>
            </a:r>
            <a:r>
              <a:rPr b="0" lang="en" sz="3200" spc="-1" strike="noStrike" u="sng">
                <a:solidFill>
                  <a:srgbClr val="ffffff"/>
                </a:solidFill>
                <a:uFillTx/>
                <a:latin typeface="Garamond"/>
              </a:rPr>
              <a:t>. </a:t>
            </a:r>
            <a:r>
              <a:rPr b="0" lang="en" sz="3200" spc="-1" strike="noStrike">
                <a:solidFill>
                  <a:srgbClr val="ffffff"/>
                </a:solidFill>
                <a:latin typeface="Garamond"/>
              </a:rPr>
              <a:t> Two of its 12 criteria for children in need of protection, contained in section 37(2), concern very young offende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Protection is deemed necessary when: </a:t>
            </a:r>
            <a:br>
              <a:rPr sz="3600"/>
            </a:br>
            <a:endParaRPr b="1" lang="en-US" sz="3600" spc="-1" strike="noStrike">
              <a:solidFill>
                <a:srgbClr val="e5e5ff"/>
              </a:solidFill>
              <a:latin typeface="Garamond"/>
            </a:endParaRPr>
          </a:p>
        </p:txBody>
      </p:sp>
      <p:sp>
        <p:nvSpPr>
          <p:cNvPr id="12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j) </a:t>
            </a:r>
            <a:r>
              <a:rPr b="0" lang="en" sz="3200" spc="-1" strike="noStrike" u="sng">
                <a:solidFill>
                  <a:srgbClr val="ffffff"/>
                </a:solidFill>
                <a:uFillTx/>
                <a:latin typeface="Garamond"/>
              </a:rPr>
              <a:t>the child is less than twelve years old and has killed or seriously injured another person or has caused serious damage to another person's property</a:t>
            </a:r>
            <a:r>
              <a:rPr b="0" lang="en" sz="3200" spc="-1" strike="noStrike">
                <a:solidFill>
                  <a:srgbClr val="ffffff"/>
                </a:solidFill>
                <a:latin typeface="Garamond"/>
              </a:rPr>
              <a:t>, services or treatment are necessary to prevent a recurrence and the child's parents or the person having charge of the child does not provide, or refuses or is unavailable to consent to, those services or treatment; </a:t>
            </a:r>
            <a:br>
              <a:rPr sz="3200"/>
            </a:br>
            <a:r>
              <a:rPr b="0" lang="e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Protection is deemed necessary when:</a:t>
            </a:r>
            <a:r>
              <a:rPr b="1" lang="en" sz="2800" spc="-1" strike="noStrike">
                <a:solidFill>
                  <a:srgbClr val="e5e5ff"/>
                </a:solidFill>
                <a:latin typeface="Garamond"/>
              </a:rPr>
              <a:t> </a:t>
            </a:r>
            <a:br>
              <a:rPr sz="2800"/>
            </a:br>
            <a:endParaRPr b="1" lang="en-US" sz="2800" spc="-1" strike="noStrike">
              <a:solidFill>
                <a:srgbClr val="e5e5ff"/>
              </a:solidFill>
              <a:latin typeface="Garamond"/>
            </a:endParaRPr>
          </a:p>
        </p:txBody>
      </p:sp>
      <p:sp>
        <p:nvSpPr>
          <p:cNvPr id="12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k) </a:t>
            </a:r>
            <a:r>
              <a:rPr b="0" lang="en" sz="3200" spc="-1" strike="noStrike" u="sng">
                <a:solidFill>
                  <a:srgbClr val="ffffff"/>
                </a:solidFill>
                <a:uFillTx/>
                <a:latin typeface="Garamond"/>
              </a:rPr>
              <a:t>the child is less than twelve years old and has on more than one occasion injured another person or caused loss or damage to another person's property, with the encouragement of the person having charge of the child or because of that person's failure or inability to supervise the child adequatel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 serious offence by the child is not sufficient to create a need for protection.  </a:t>
            </a:r>
            <a:r>
              <a:rPr b="0" lang="en" sz="3200" spc="-1" strike="noStrike" u="sng">
                <a:solidFill>
                  <a:srgbClr val="ffffff"/>
                </a:solidFill>
                <a:uFillTx/>
                <a:latin typeface="Garamond"/>
              </a:rPr>
              <a:t>There must also be a failure by the person having custody of the child to take corrective or preventive action. </a:t>
            </a:r>
            <a:r>
              <a:rPr b="0" lang="en"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e5e5ff"/>
                </a:solidFill>
                <a:latin typeface="Garamond"/>
              </a:rPr>
              <a:t>(Ontario provision)</a:t>
            </a:r>
            <a:endParaRPr b="1" lang="en-US" sz="2800" spc="-1" strike="noStrike">
              <a:solidFill>
                <a:srgbClr val="e5e5ff"/>
              </a:solidFill>
              <a:latin typeface="Garamond"/>
            </a:endParaRPr>
          </a:p>
        </p:txBody>
      </p:sp>
      <p:sp>
        <p:nvSpPr>
          <p:cNvPr id="126" name="PlaceHolder 2"/>
          <p:cNvSpPr>
            <a:spLocks noGrp="1"/>
          </p:cNvSpPr>
          <p:nvPr>
            <p:ph/>
          </p:nvPr>
        </p:nvSpPr>
        <p:spPr>
          <a:xfrm>
            <a:off x="533520" y="1143000"/>
            <a:ext cx="8229600" cy="50292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Ontario] </a:t>
            </a:r>
            <a:r>
              <a:rPr b="0" i="1" lang="en" sz="2800" spc="-1" strike="noStrike">
                <a:solidFill>
                  <a:srgbClr val="ffffff"/>
                </a:solidFill>
                <a:latin typeface="Garamond"/>
              </a:rPr>
              <a:t>Child and Family Services Act</a:t>
            </a:r>
            <a:r>
              <a:rPr b="0" lang="en" sz="2800" spc="-1" strike="noStrike">
                <a:solidFill>
                  <a:srgbClr val="ffffff"/>
                </a:solidFill>
                <a:latin typeface="Garamond"/>
              </a:rPr>
              <a:t> provides a process resembling arrest for police to take a very young offender into custody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42.(1) A peace officer who believes on reasonable and probable grounds that a child actually or apparently under twelve years of age has committed an act in respect of which a person twelve years of age or older could be found guilty of an offence may apprehend the child without a warrant and on doing so,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a) shall return the child to the child's parent or other person having charge of the child as soon as practicable; o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533520"/>
            <a:ext cx="8229600" cy="5943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b) where it is not possible to return the child to the parent or other person within a reasonable time, shall </a:t>
            </a:r>
            <a:r>
              <a:rPr b="0" lang="en" sz="2800" spc="-1" strike="noStrike" u="sng">
                <a:solidFill>
                  <a:srgbClr val="ffffff"/>
                </a:solidFill>
                <a:uFillTx/>
                <a:latin typeface="Garamond"/>
              </a:rPr>
              <a:t>take the child to a place of safety</a:t>
            </a:r>
            <a:r>
              <a:rPr b="0" lang="en" sz="2800" spc="-1" strike="noStrike">
                <a:solidFill>
                  <a:srgbClr val="ffffff"/>
                </a:solidFill>
                <a:latin typeface="Garamond"/>
              </a:rPr>
              <a:t> to be detained there until the child can be returned to the parent or other per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2) The person in charge of a place of safety in which a child is detained under subsection (1) shall make </a:t>
            </a:r>
            <a:r>
              <a:rPr b="0" lang="en" sz="2800" spc="-1" strike="noStrike" u="sng">
                <a:solidFill>
                  <a:srgbClr val="ffffff"/>
                </a:solidFill>
                <a:uFillTx/>
                <a:latin typeface="Garamond"/>
              </a:rPr>
              <a:t>reasonable efforts to notify the child's parent</a:t>
            </a:r>
            <a:r>
              <a:rPr b="0" lang="en" sz="2800" spc="-1" strike="noStrike">
                <a:solidFill>
                  <a:srgbClr val="ffffff"/>
                </a:solidFill>
                <a:latin typeface="Garamond"/>
              </a:rPr>
              <a:t> or other person having charge of the child of the child's detention so that the child may be returned to the parent or other per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he “place of safety” refers to any of the placement options open to child protection workers who take children into protective custody.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In Ontario an underage offender is seen as a child welfare concer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a:solidFill>
                  <a:srgbClr val="e5e5ff"/>
                </a:solidFill>
                <a:latin typeface="Garamond"/>
              </a:rPr>
              <a:t>Child Abuse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abuse is often considered to be of four type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hysical abus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sexual abuse,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emotional abuse, and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neglec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American federal </a:t>
            </a:r>
            <a:r>
              <a:rPr b="1" i="1" lang="en" sz="3600" spc="-1" strike="noStrike">
                <a:solidFill>
                  <a:srgbClr val="e5e5ff"/>
                </a:solidFill>
                <a:latin typeface="Garamond"/>
              </a:rPr>
              <a:t>Child Abuse Prevention and Treatment Act</a:t>
            </a:r>
            <a:br>
              <a:rPr sz="3600"/>
            </a:br>
            <a:endParaRPr b="1" lang="en-US" sz="36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child abuse and neglect” is defined as “the physical or mental injury, sexual abuse or exploitation, negligent treatment, or maltreatment of a child under the age of eighteen, or the age specified by the child protection law of the State in question, by a person who is responsible for the child's welfare under circumstances which indicate that the child's health or welfare is harmed or threatened thereby, . .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e5e5ff"/>
                </a:solidFill>
                <a:latin typeface="Garamond"/>
              </a:rPr>
              <a:t>CHILD ABUSE</a:t>
            </a:r>
            <a:endParaRPr b="1" lang="en-US" sz="4400" spc="-1" strike="noStrike">
              <a:solidFill>
                <a:srgbClr val="e5e5ff"/>
              </a:solidFill>
              <a:latin typeface="Garamond"/>
            </a:endParaRPr>
          </a:p>
        </p:txBody>
      </p:sp>
      <p:sp>
        <p:nvSpPr>
          <p:cNvPr id="133"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ffff"/>
                </a:solidFill>
                <a:latin typeface="Garamond"/>
              </a:rPr>
              <a:t>	</a:t>
            </a:r>
            <a:r>
              <a:rPr b="1" lang="en" sz="2800" spc="-1" strike="noStrike" u="sng">
                <a:solidFill>
                  <a:srgbClr val="ffffff"/>
                </a:solidFill>
                <a:uFillTx/>
                <a:latin typeface="Garamond"/>
              </a:rPr>
              <a:t>NB: All provinces and territories legally require teachers (and several other groups of professionals) to report suspected child abuse.</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In New brunswick, reporting is required under both the </a:t>
            </a:r>
            <a:r>
              <a:rPr b="0" i="1" lang="en" sz="2800" spc="-1" strike="noStrike">
                <a:solidFill>
                  <a:srgbClr val="ffffff"/>
                </a:solidFill>
                <a:latin typeface="Garamond"/>
              </a:rPr>
              <a:t>Family Services Act</a:t>
            </a:r>
            <a:r>
              <a:rPr b="0" lang="en" sz="2800" spc="-1" strike="noStrike">
                <a:solidFill>
                  <a:srgbClr val="ffffff"/>
                </a:solidFill>
                <a:latin typeface="Garamond"/>
              </a:rPr>
              <a:t> and the </a:t>
            </a:r>
            <a:r>
              <a:rPr b="0" i="1" lang="en" sz="2800" spc="-1" strike="noStrike">
                <a:solidFill>
                  <a:srgbClr val="ffffff"/>
                </a:solidFill>
                <a:latin typeface="Garamond"/>
              </a:rPr>
              <a:t>Education Act</a:t>
            </a:r>
            <a:r>
              <a:rPr b="0" lang="en" sz="2800" spc="-1" strike="noStrike">
                <a:solidFill>
                  <a:srgbClr val="ffffff"/>
                </a:solidFill>
                <a:latin typeface="Garamond"/>
              </a:rPr>
              <a:t>.</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British Columbia's </a:t>
            </a:r>
            <a:r>
              <a:rPr b="0" i="1" lang="en" sz="2800" spc="-1" strike="noStrike">
                <a:solidFill>
                  <a:srgbClr val="ffffff"/>
                </a:solidFill>
                <a:latin typeface="Garamond"/>
              </a:rPr>
              <a:t>Inter-Ministry Child Abuse Handbook</a:t>
            </a:r>
            <a:r>
              <a:rPr b="0" lang="en" sz="2800" spc="-1" strike="noStrike">
                <a:solidFill>
                  <a:srgbClr val="ffffff"/>
                </a:solidFill>
                <a:latin typeface="Garamond"/>
              </a:rPr>
              <a:t> mentions some signs of child abuse that are likely to be apparent to teachers (77–78). . . . These signs are especially serious if they are consistent over time, long lasting, pervasive, or repeated.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 sz="4000" spc="-1" strike="noStrike">
                <a:solidFill>
                  <a:srgbClr val="e5e5ff"/>
                </a:solidFill>
                <a:latin typeface="Garamond"/>
              </a:rPr>
              <a:t>Child Welfare</a:t>
            </a:r>
            <a:br>
              <a:rPr sz="4000"/>
            </a:b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The term “child welfare” covers a multitude of [social] services provided to children to ensure their health, safety, security, and development . . .  including daycare, adoption, and child protection. </a:t>
            </a:r>
            <a:endParaRPr b="0" lang="en-US" sz="3200" spc="-1" strike="noStrike">
              <a:solidFill>
                <a:srgbClr val="ffffff"/>
              </a:solidFill>
              <a:latin typeface="Garamond"/>
            </a:endParaRPr>
          </a:p>
          <a:p>
            <a:pPr marL="322200" indent="-3222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includes the prevention and detection of child abuse as well as protective custody of children in foster care and group hom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4400" spc="-1" strike="noStrike">
                <a:solidFill>
                  <a:srgbClr val="e5e5ff"/>
                </a:solidFill>
                <a:latin typeface="Garamond"/>
              </a:rPr>
              <a:t>CHILD ABUSE</a:t>
            </a:r>
            <a:endParaRPr b="1" lang="en-US" sz="4400" spc="-1" strike="noStrike">
              <a:solidFill>
                <a:srgbClr val="e5e5ff"/>
              </a:solidFill>
              <a:latin typeface="Garamond"/>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Educators should be concerned about the student who is: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1. Frequently tardy.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2. Very reluctant to attend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3. Frequently absent from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4. Apparently reluctant to go home after school.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5. Frequently inadequately dressed for the season or the weather.  </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e5e5ff"/>
                </a:solidFill>
                <a:latin typeface="Garamond"/>
              </a:rPr>
              <a:t>CHILD ABUSE</a:t>
            </a:r>
            <a:endParaRPr b="1" lang="en-US" sz="3600" spc="-1" strike="noStrike">
              <a:solidFill>
                <a:srgbClr val="e5e5ff"/>
              </a:solidFill>
              <a:latin typeface="Garamond"/>
            </a:endParaRPr>
          </a:p>
        </p:txBody>
      </p:sp>
      <p:sp>
        <p:nvSpPr>
          <p:cNvPr id="137" name="PlaceHolder 2"/>
          <p:cNvSpPr>
            <a:spLocks noGrp="1"/>
          </p:cNvSpPr>
          <p:nvPr>
            <p:ph/>
          </p:nvPr>
        </p:nvSpPr>
        <p:spPr>
          <a:xfrm>
            <a:off x="457200" y="1218960"/>
            <a:ext cx="8229600" cy="5638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Of obvious concern is the student who: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1. Appears to be undernourished.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2. Has obvious medical needs that are not receiving attention.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3. Has physical injuries such as bruises, welts, cuts or burns and whose explanations appear to be incompatible with the nature or extent of the injur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4. Appears to be unusually fearful to undress at appropriate times such as for gym clas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5. Complains of pain around the genital or mouth and throat are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6. Mentions that “it hurts when going to the bathroom”.  It should be noted that frequently students demonstrating these symptoms are fearful when questioned regarding an injury.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cial Role of Teachers</a:t>
            </a:r>
            <a:endParaRPr b="1" lang="en-US" sz="4400" spc="-1" strike="noStrike">
              <a:solidFill>
                <a:srgbClr val="e5e5ff"/>
              </a:solidFill>
              <a:latin typeface="Garamond"/>
            </a:endParaRPr>
          </a:p>
        </p:txBody>
      </p:sp>
      <p:sp>
        <p:nvSpPr>
          <p:cNvPr id="139"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Teachers have a special role since they routinely come into contact with so many children. On one hand:</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eachers have expressed concern that the parents will retaliate against the child if the child has reported the abuse to the teacher or that they may retaliate directly against the teacher.  At best, relationships are likely to be strained.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n the other:</a:t>
            </a:r>
            <a:r>
              <a:rPr b="0" lang="en-US" sz="2800" spc="-1" strike="noStrike">
                <a:solidFill>
                  <a:srgbClr val="ffffff"/>
                </a:solidFill>
                <a:latin typeface="Garamond"/>
              </a:rPr>
              <a:t>	</a:t>
            </a:r>
            <a:r>
              <a:rPr b="0" lang="en-US" sz="2800" spc="-1" strike="noStrike">
                <a:solidFill>
                  <a:srgbClr val="ffffff"/>
                </a:solidFill>
                <a:latin typeface="Garamond"/>
              </a:rPr>
              <a:t>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in all provinces and territories are required by law to report suspected child abuse to provincial or territorial child protection official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cial services, education, and health generally share services for physically handicapped, mentally retarded, and emotionally disturbed children.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welfare services can be distinguished from, but border on, health, education, recreational services for children, and welfare services for adults . . .  (e.g. Family service organizations such as Income Assistance and Social Services may deal directly with parents but almost always have child welfare as their main objectiv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s and Child Welfare</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welfare provisions affect teachers and apply to all teachers in Canada in the areas of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daycar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chool children in contact with the child welfare syste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mandatory reporting of child abus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 Protection </a:t>
            </a:r>
            <a:br>
              <a:rPr sz="4000"/>
            </a:br>
            <a:endParaRPr b="1" lang="en-US" sz="4000" spc="-1" strike="noStrike">
              <a:solidFill>
                <a:srgbClr val="e5e5ff"/>
              </a:solidFill>
              <a:latin typeface="Garamond"/>
            </a:endParaRPr>
          </a:p>
        </p:txBody>
      </p:sp>
      <p:sp>
        <p:nvSpPr>
          <p:cNvPr id="107"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All provinces and territories have child protection legislation . . .to provide care for children when the family is not providing adequate care or is absent.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A provincial ministries or departments are responsible for social services in seven provinces and the territories (FCS in NB)</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In Manitoba, Ontario, and Nova Scotia private organizations called “children's aid societies” or “child and family service agencies” provide the servic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400" spc="-1" strike="noStrike" u="sng">
                <a:solidFill>
                  <a:srgbClr val="ffcc00"/>
                </a:solidFill>
                <a:uFillTx/>
                <a:latin typeface="Garamond"/>
                <a:hlinkClick r:id="rId1"/>
              </a:rPr>
              <a:t>Child Protection</a:t>
            </a:r>
            <a:endParaRPr b="1" lang="en-US" sz="4400" spc="-1" strike="noStrike">
              <a:solidFill>
                <a:srgbClr val="e5e5ff"/>
              </a:solidFill>
              <a:latin typeface="Garamond"/>
            </a:endParaRPr>
          </a:p>
        </p:txBody>
      </p:sp>
      <p:sp>
        <p:nvSpPr>
          <p:cNvPr id="109"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Child protection authorities ca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provide help to families in difficulty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remove  “children whose security or development is in danger” from familie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Garamond"/>
              </a:rPr>
              <a:t>take “children in need of protection” into protective custody when the welfare of the children requires thi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ren in Need of Protection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The </a:t>
            </a:r>
            <a:r>
              <a:rPr b="0" i="1" lang="en" sz="2400" spc="-1" strike="noStrike">
                <a:solidFill>
                  <a:srgbClr val="ffffff"/>
                </a:solidFill>
                <a:latin typeface="Garamond"/>
              </a:rPr>
              <a:t>Child, Family and Community Service Act</a:t>
            </a:r>
            <a:r>
              <a:rPr b="0" lang="en" sz="2400" spc="-1" strike="noStrike">
                <a:solidFill>
                  <a:srgbClr val="ffffff"/>
                </a:solidFill>
                <a:latin typeface="Garamond"/>
              </a:rPr>
              <a:t> of British Columbia defines a child in need of protection.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13 (1) A child needs protection in the following circumstance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a) if the child has been, or is likely to be, physically harmed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b) if the child has been, or is likely to be, sexually abused or exploited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c) if the child has been, or is likely to be, physically harmed, sexually abused or sexually exploited by another person and if the child's parent is unwilling or unable to protect the child;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d) if the child has been, or is likely to be, physically harmed because of neglect by the child's parent;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e) if the child is emotionally harmed by the parent's conduc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3059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Children in Need of Protection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f) if the child is deprived of necessary health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g) if the child's development is likely to be seriously impaired by a treatable condition and the child's parent refuses to provide or consent to treatment;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h) if the child's parent is unable or unwilling to care for the child and has not made adequate provision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i) if the child is or has been absent from home in circumstances that endanger the child's safety or well-being;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j) if the child's parent is dead and adequate provision has not been made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k) if the child has been abandoned and adequate provision has not been made for the child's care;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ff"/>
                </a:solidFill>
                <a:latin typeface="Garamond"/>
              </a:rPr>
              <a:t>(l) if the child is in the care of a director or another person by agreement and the child's parent is unwilling or unable to resume care when the agreement is no longer in force. </a:t>
            </a:r>
            <a:endParaRPr b="0" lang="en-US" sz="2400" spc="-1" strike="noStrike">
              <a:solidFill>
                <a:srgbClr val="ffffff"/>
              </a:solidFill>
              <a:latin typeface="Garamond"/>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4000" spc="-1" strike="noStrike" u="sng">
                <a:solidFill>
                  <a:srgbClr val="ffcc00"/>
                </a:solidFill>
                <a:uFillTx/>
                <a:latin typeface="Garamond"/>
                <a:hlinkClick r:id="rId1"/>
              </a:rPr>
              <a:t>Apprehensions in Schools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fontScale="88000"/>
          </a:bodyPr>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Child–protection workers frequently enter schools to question children suspected of having been abused or to take such children into protective custody.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  </a:t>
            </a:r>
            <a:r>
              <a:rPr b="0" lang="en" sz="3200" spc="-1" strike="noStrike">
                <a:solidFill>
                  <a:srgbClr val="ffffff"/>
                </a:solidFill>
                <a:latin typeface="Garamond"/>
              </a:rPr>
              <a:t>If the child–protection worker is not known to school authorities, the authorities ask for identification and verify the child–protection worker's function with the social services agency having jurisdiction in that area.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Garamond"/>
              </a:rPr>
              <a:t>Some provinces have provisions for warrants for children to be taken into protective custod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9T02:10:22Z</dcterms:created>
  <dc:creator>B McNutt</dc:creator>
  <dc:description/>
  <dc:language>en-US</dc:language>
  <cp:lastModifiedBy>Owner</cp:lastModifiedBy>
  <dcterms:modified xsi:type="dcterms:W3CDTF">2011-02-12T17:37:08Z</dcterms:modified>
  <cp:revision>3</cp:revision>
  <dc:subject/>
  <dc:title>Child Welfare </dc:title>
</cp:coreProperties>
</file>